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5046-5BBF-4A1A-A53A-28CC549F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DFD-2D8E-4276-BC10-3FF5C3E6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5BE-3450-4C54-BDF8-2B0C26C4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B43-AA3C-4715-A082-7C7E3391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583-3BA9-47AF-B2A7-30AFA6A7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872-52D7-45D4-8FE8-96AEB0F6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DD3-3101-497E-B7BE-90BC2E0C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4CA-6013-4835-8058-1708022E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3C9-92C2-4E49-8007-F8286E9B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8DE-BED1-4E33-BE0E-575A96E3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ED70-22EC-4F97-BCB5-015256D2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1E5-37BB-43CE-997F-16AB1E5C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C8B7-D032-4A84-9F46-D7909CE83C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480" y="1971720"/>
            <a:ext cx="8926200" cy="2046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8680" y="4260960"/>
            <a:ext cx="902016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「まとめ」シー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00160" y="2538360"/>
            <a:ext cx="6943680" cy="1781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鶏ふん堆肥・計算結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6480" y="2505240"/>
            <a:ext cx="9220320" cy="1895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246320" y="4562640"/>
            <a:ext cx="1000080" cy="1895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可溶有機物・パックテス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9040" y="2116080"/>
            <a:ext cx="8353440" cy="1552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41320" y="4251240"/>
            <a:ext cx="2981520" cy="1381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可溶有機物・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KMnO4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滴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6880" y="2655720"/>
            <a:ext cx="8705880" cy="1038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4960" y="4103640"/>
            <a:ext cx="4562640" cy="1038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可溶有機物・灰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36560" y="1509840"/>
            <a:ext cx="5057640" cy="1209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19000" y="2943360"/>
            <a:ext cx="4915080" cy="2581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可溶窒素・データ入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71400" y="1251000"/>
            <a:ext cx="7886880" cy="3952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可溶窒素・検量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3040" y="2138400"/>
            <a:ext cx="8201160" cy="2581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可溶窒素・計算結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320" y="1670040"/>
            <a:ext cx="9220320" cy="5067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「緩効性窒素計算用」シー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440" y="3610080"/>
            <a:ext cx="8420040" cy="1809720"/>
          </a:xfrm>
          <a:prstGeom prst="rect">
            <a:avLst/>
          </a:prstGeom>
          <a:ln w="0">
            <a:noFill/>
          </a:ln>
        </p:spPr>
      </p:pic>
      <p:sp>
        <p:nvSpPr>
          <p:cNvPr id="105" name="角丸四角形 6"/>
          <p:cNvSpPr/>
          <p:nvPr/>
        </p:nvSpPr>
        <p:spPr>
          <a:xfrm>
            <a:off x="1523880" y="2057400"/>
            <a:ext cx="3078360" cy="1454040"/>
          </a:xfrm>
          <a:prstGeom prst="roundRect">
            <a:avLst>
              <a:gd name="adj" fmla="val 16667"/>
            </a:avLst>
          </a:prstGeom>
          <a:solidFill>
            <a:srgbClr val="ff6666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牛ふん堆肥の場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牛ふん堆肥で緩効性窒素の計算を行う場合以外は、データを削除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角丸四角形 6"/>
          <p:cNvSpPr/>
          <p:nvPr/>
        </p:nvSpPr>
        <p:spPr>
          <a:xfrm>
            <a:off x="5029200" y="2057400"/>
            <a:ext cx="3246480" cy="1447920"/>
          </a:xfrm>
          <a:prstGeom prst="roundRect">
            <a:avLst>
              <a:gd name="adj" fmla="val 16667"/>
            </a:avLst>
          </a:prstGeom>
          <a:solidFill>
            <a:srgbClr val="ff6666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豚ぷん堆肥の場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豚ぷん堆肥で速効・緩効性窒素の計算を行う場合以外は、データを削除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緩効性窒素・牛ふん堆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77040" cy="2227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600200" y="4267080"/>
            <a:ext cx="5956200" cy="2227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「地温換算用」シー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6000" y="2309760"/>
            <a:ext cx="8715240" cy="2238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「水分」シー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7680" y="3533760"/>
            <a:ext cx="7934040" cy="1809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角丸四角形 13"/>
          <p:cNvSpPr/>
          <p:nvPr/>
        </p:nvSpPr>
        <p:spPr>
          <a:xfrm>
            <a:off x="1219320" y="2133720"/>
            <a:ext cx="6910200" cy="1143000"/>
          </a:xfrm>
          <a:prstGeom prst="roundRect">
            <a:avLst>
              <a:gd name="adj" fmla="val 16667"/>
            </a:avLst>
          </a:prstGeom>
          <a:solidFill>
            <a:srgbClr val="ff6666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豚ぷん堆肥は、次のページにある地温から導き出した係数を使い、時期別に速効性、緩効性の窒素量を算出でき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緩効性窒素・豚ぷん堆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806400" y="2033640"/>
            <a:ext cx="10422000" cy="3324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「水分量の多い堆肥」シー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95400" y="2798640"/>
            <a:ext cx="9534600" cy="1895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「粗灰分」シー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1920" y="1928880"/>
            <a:ext cx="5486400" cy="120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1800" y="3452760"/>
            <a:ext cx="4962600" cy="1209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070600" y="3452760"/>
            <a:ext cx="3741480" cy="120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96720" y="5014800"/>
            <a:ext cx="5667480" cy="120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「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」シート・データ入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00160" y="1498680"/>
            <a:ext cx="6943680" cy="2238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00160" y="3860640"/>
            <a:ext cx="6943680" cy="2238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「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」シート・計算結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00160" y="1879560"/>
            <a:ext cx="6943680" cy="2238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「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」シート・計算結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36480" y="1819440"/>
            <a:ext cx="5486400" cy="86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66720" y="2962440"/>
            <a:ext cx="4962600" cy="866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25320" y="4108320"/>
            <a:ext cx="5667480" cy="524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「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」シート・鶏ふん堆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23840" y="1743120"/>
            <a:ext cx="6943680" cy="1781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23840" y="3878280"/>
            <a:ext cx="6943680" cy="1609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533520"/>
            <a:ext cx="71625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鶏ふん堆肥・計算結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08:01:12Z</dcterms:created>
  <dc:creator>Gen ISHIOKA</dc:creator>
  <dc:description/>
  <dc:language>en-US</dc:language>
  <cp:lastModifiedBy>gen</cp:lastModifiedBy>
  <dcterms:modified xsi:type="dcterms:W3CDTF">2009-11-05T05:36:56Z</dcterms:modified>
  <cp:revision>10</cp:revision>
  <dc:subject/>
  <dc:title>PowerPoint プレゼンテーション</dc:title>
</cp:coreProperties>
</file>